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AFDC-EF46-4644-A7D9-6A3563A558E6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717A-DB0E-4821-82B7-37E5E51A8375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E094-31A2-44EB-AA83-DF87F4E44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5EF2-ECAA-4E99-B5D4-B6C0EF98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4E60-8450-4765-AFA0-9CC87118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23B4-82F0-4F0B-85BC-C21FDFB3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0B6D-4771-4A70-83B7-8854FBA5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D8D0-8CBF-45C5-B629-382403FF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EDB4-66ED-4C97-B144-B88A18AD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9766-5E72-4C4A-94CE-7C92AD41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C89B-4559-48C6-976E-8316706C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2C89-E940-4D8D-BBB1-189E0BEC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EE8E-19A3-4586-8DA6-D52740BB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D78C-ED67-43CA-A27E-5F83693D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DA91-1DC3-4DFB-8072-AACDC2E36F67}" type="datetime">
              <a:rPr b="0" lang="tr-TR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F21E-F18A-4A1D-892B-5E1A798E8F5B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bindapple.com/wp-content/uploads/2010/04/swot-analysis.png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images.apple.com/home/images/ipad_hero_20100403.png"/>
          <p:cNvPicPr/>
          <p:nvPr/>
        </p:nvPicPr>
        <p:blipFill>
          <a:blip r:embed="rId1"/>
          <a:stretch/>
        </p:blipFill>
        <p:spPr>
          <a:xfrm>
            <a:off x="0" y="1857240"/>
            <a:ext cx="9101160" cy="4857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Pad is here."/>
          <p:cNvPicPr/>
          <p:nvPr/>
        </p:nvPicPr>
        <p:blipFill>
          <a:blip r:embed="rId2"/>
          <a:stretch/>
        </p:blipFill>
        <p:spPr>
          <a:xfrm>
            <a:off x="3071880" y="1357200"/>
            <a:ext cx="2666880" cy="428760"/>
          </a:xfrm>
          <a:prstGeom prst="rect">
            <a:avLst/>
          </a:prstGeom>
          <a:ln w="0">
            <a:noFill/>
          </a:ln>
        </p:spPr>
      </p:pic>
      <p:sp>
        <p:nvSpPr>
          <p:cNvPr id="50" name="6 Metin kutusu"/>
          <p:cNvSpPr/>
          <p:nvPr/>
        </p:nvSpPr>
        <p:spPr>
          <a:xfrm>
            <a:off x="0" y="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Calibri"/>
              </a:rPr>
              <a:t>MARKETING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Slayt Numarası Yer Tutucusu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7371-F3D9-4DDD-87D3-29BF78A2E425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4 İçerik Yer Tutucusu" descr="pages-horizontal-typing-on-ipad.jpg"/>
          <p:cNvPicPr/>
          <p:nvPr/>
        </p:nvPicPr>
        <p:blipFill>
          <a:blip r:embed="rId1">
            <a:lum bright="-34000"/>
          </a:blip>
          <a:stretch/>
        </p:blipFill>
        <p:spPr>
          <a:xfrm>
            <a:off x="142920" y="1285920"/>
            <a:ext cx="8929800" cy="52862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81440" y="3960"/>
            <a:ext cx="3411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tr-TR" sz="48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1" lang="tr-TR" sz="3600" spc="-1" strike="noStrike">
                <a:solidFill>
                  <a:srgbClr val="000000"/>
                </a:solidFill>
                <a:latin typeface="Calibri"/>
              </a:rPr>
              <a:t>OT ANALY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7 Metin kutusu"/>
          <p:cNvSpPr/>
          <p:nvPr/>
        </p:nvSpPr>
        <p:spPr>
          <a:xfrm>
            <a:off x="428760" y="1446120"/>
            <a:ext cx="83581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ffffff"/>
                </a:solidFill>
                <a:uFillTx/>
                <a:latin typeface="Calibri"/>
              </a:rPr>
              <a:t>Weak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High Launching  Pr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NO Multi - tasking opport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Flash support for the web brow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NO USB 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NO Ca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6 Slayt Numarası Yer Tutucusu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A9A1-BC8C-41A6-B625-A1B37DDD9CA3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4 İçerik Yer Tutucusu" descr="pages-horizontal-typing-on-ipad.jpg"/>
          <p:cNvPicPr/>
          <p:nvPr/>
        </p:nvPicPr>
        <p:blipFill>
          <a:blip r:embed="rId1">
            <a:lum bright="-34000"/>
          </a:blip>
          <a:stretch/>
        </p:blipFill>
        <p:spPr>
          <a:xfrm>
            <a:off x="142920" y="1285920"/>
            <a:ext cx="8929800" cy="52862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57680" y="15120"/>
            <a:ext cx="3409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tr-TR" sz="48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1" lang="tr-TR" sz="3600" spc="-1" strike="noStrike">
                <a:solidFill>
                  <a:srgbClr val="000000"/>
                </a:solidFill>
                <a:latin typeface="Calibri"/>
              </a:rPr>
              <a:t>OT ANALY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7 Metin kutusu"/>
          <p:cNvSpPr/>
          <p:nvPr/>
        </p:nvSpPr>
        <p:spPr>
          <a:xfrm>
            <a:off x="428760" y="1446120"/>
            <a:ext cx="8358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NO memory card s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While typing on an iPad  screen viewing angle could be awkward during long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NO 16:9 screen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NO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e-i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(the one that makes the brightness of the screen, close to being like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the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real pages of a book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6 Slayt Numarası Yer Tutucusu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1DFF-EA8B-4E12-8168-15C4C93B40E0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3 İçerik Yer Tutucusu" descr="keynote-using-iphoto-on-ipad.jpg"/>
          <p:cNvPicPr/>
          <p:nvPr/>
        </p:nvPicPr>
        <p:blipFill>
          <a:blip r:embed="rId1"/>
          <a:stretch/>
        </p:blipFill>
        <p:spPr>
          <a:xfrm>
            <a:off x="38160" y="1273320"/>
            <a:ext cx="9072360" cy="55720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Calibri"/>
              </a:rPr>
              <a:t>SW</a:t>
            </a:r>
            <a:r>
              <a:rPr b="1" lang="tr-TR" sz="4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tr-TR" sz="3600" spc="-1" strike="noStrike">
                <a:solidFill>
                  <a:srgbClr val="000000"/>
                </a:solidFill>
                <a:latin typeface="Calibri"/>
              </a:rPr>
              <a:t>T ANALY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6 Metin kutusu"/>
          <p:cNvSpPr/>
          <p:nvPr/>
        </p:nvSpPr>
        <p:spPr>
          <a:xfrm>
            <a:off x="285840" y="1401840"/>
            <a:ext cx="88581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ffffff"/>
                </a:solidFill>
                <a:uFillTx/>
                <a:latin typeface="Calibri"/>
              </a:rPr>
              <a:t>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00b0f0"/>
                </a:solidFill>
                <a:latin typeface="Calibri"/>
              </a:rPr>
              <a:t>Ads within newspapers will be able to be interactive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, may contain links back to corporate branded websites, may allow users to watch and download videos, readers to see a gallery of photographs and the size of  iPad ,may allow them to become more involved and engaged than ever. iPad could be a new way for marketers to reach consum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tr-TR" sz="2400" spc="-1" strike="noStrike">
                <a:solidFill>
                  <a:srgbClr val="00b0f0"/>
                </a:solidFill>
                <a:latin typeface="Calibri"/>
              </a:rPr>
              <a:t>Ability to place more targeted advertising around specific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5 Slayt Numarası Yer Tutucusu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B1CC-82A3-4E11-A6B7-F8BBCBB32A5F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3 İçerik Yer Tutucusu" descr="keynote-using-iphoto-on-ipad.jpg"/>
          <p:cNvPicPr/>
          <p:nvPr/>
        </p:nvPicPr>
        <p:blipFill>
          <a:blip r:embed="rId1"/>
          <a:stretch/>
        </p:blipFill>
        <p:spPr>
          <a:xfrm>
            <a:off x="71280" y="1285920"/>
            <a:ext cx="8929800" cy="52862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Calibri"/>
              </a:rPr>
              <a:t>SW</a:t>
            </a:r>
            <a:r>
              <a:rPr b="1" lang="tr-TR" sz="4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tr-TR" sz="3600" spc="-1" strike="noStrike">
                <a:solidFill>
                  <a:srgbClr val="000000"/>
                </a:solidFill>
                <a:latin typeface="Calibri"/>
              </a:rPr>
              <a:t>T ANALY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8 Dikdörtgen"/>
          <p:cNvSpPr/>
          <p:nvPr/>
        </p:nvSpPr>
        <p:spPr>
          <a:xfrm>
            <a:off x="214200" y="1214280"/>
            <a:ext cx="8715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00b0f0"/>
                </a:solidFill>
                <a:latin typeface="Calibri"/>
              </a:rPr>
              <a:t>Interactivity Capabilities 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(For example, someone watching  a TV show  may like what an actor is wearing and want to know more about the brand , the viewer may simply click on that item for more information or to be taken to the brand’s website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00b0f0"/>
                </a:solidFill>
                <a:latin typeface="Calibri"/>
              </a:rPr>
              <a:t>Many other apps will be available in the future and everybody is waiting for the 3G version soon to be rele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5 Slayt Numarası Yer Tutucusu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F683-337F-428E-8B2D-49035CD9C481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3 Resim" descr="keynote-on-ipad.jpg"/>
          <p:cNvPicPr/>
          <p:nvPr/>
        </p:nvPicPr>
        <p:blipFill>
          <a:blip r:embed="rId1"/>
          <a:stretch/>
        </p:blipFill>
        <p:spPr>
          <a:xfrm>
            <a:off x="65160" y="760320"/>
            <a:ext cx="9001080" cy="6072120"/>
          </a:xfrm>
          <a:prstGeom prst="rect">
            <a:avLst/>
          </a:prstGeom>
          <a:ln w="0">
            <a:noFill/>
          </a:ln>
        </p:spPr>
      </p:pic>
      <p:sp>
        <p:nvSpPr>
          <p:cNvPr id="105" name="5 Metin kutusu"/>
          <p:cNvSpPr/>
          <p:nvPr/>
        </p:nvSpPr>
        <p:spPr>
          <a:xfrm>
            <a:off x="2846520" y="0"/>
            <a:ext cx="336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Calibri"/>
              </a:rPr>
              <a:t>SWO</a:t>
            </a:r>
            <a:r>
              <a:rPr b="1" lang="tr-TR" sz="4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tr-TR" sz="3600" spc="-1" strike="noStrike">
                <a:solidFill>
                  <a:srgbClr val="000000"/>
                </a:solidFill>
                <a:latin typeface="Calibri"/>
              </a:rPr>
              <a:t>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6 Metin kutusu"/>
          <p:cNvSpPr/>
          <p:nvPr/>
        </p:nvSpPr>
        <p:spPr>
          <a:xfrm>
            <a:off x="428760" y="857160"/>
            <a:ext cx="835812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ffffff"/>
                </a:solidFill>
                <a:uFillTx/>
                <a:latin typeface="Calibri"/>
              </a:rPr>
              <a:t>Thre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00b0f0"/>
                </a:solidFill>
                <a:latin typeface="Calibri"/>
              </a:rPr>
              <a:t>The brand name of iP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Most of consumers and marketing guru’s defined the iPad name as terrible. People mean jokes about the naming of iPad because of it resembles the women’s hygienic p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00b0f0"/>
                </a:solidFill>
                <a:latin typeface="Calibri"/>
              </a:rPr>
              <a:t>The iPad may  compete with other Mac products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, including the iPhone and iTo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 Slayt Numarası Yer Tutucusu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5416-E5AA-46CA-9B1B-DD5CF6767494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3 Resim" descr="ipad-keyboard-dock.jpg"/>
          <p:cNvPicPr/>
          <p:nvPr/>
        </p:nvPicPr>
        <p:blipFill>
          <a:blip r:embed="rId1"/>
          <a:stretch/>
        </p:blipFill>
        <p:spPr>
          <a:xfrm>
            <a:off x="142920" y="1000080"/>
            <a:ext cx="8858160" cy="5715000"/>
          </a:xfrm>
          <a:prstGeom prst="rect">
            <a:avLst/>
          </a:prstGeom>
          <a:ln w="0">
            <a:noFill/>
          </a:ln>
        </p:spPr>
      </p:pic>
      <p:sp>
        <p:nvSpPr>
          <p:cNvPr id="109" name="4 Metin kutusu"/>
          <p:cNvSpPr/>
          <p:nvPr/>
        </p:nvSpPr>
        <p:spPr>
          <a:xfrm>
            <a:off x="1500120" y="285840"/>
            <a:ext cx="1843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iPad."/>
          <p:cNvPicPr/>
          <p:nvPr/>
        </p:nvPicPr>
        <p:blipFill>
          <a:blip r:embed="rId2"/>
          <a:stretch/>
        </p:blipFill>
        <p:spPr>
          <a:xfrm>
            <a:off x="214200" y="285840"/>
            <a:ext cx="1076400" cy="495360"/>
          </a:xfrm>
          <a:prstGeom prst="rect">
            <a:avLst/>
          </a:prstGeom>
          <a:ln w="0">
            <a:noFill/>
          </a:ln>
        </p:spPr>
      </p:pic>
      <p:sp>
        <p:nvSpPr>
          <p:cNvPr id="111" name="7 Metin kutusu"/>
          <p:cNvSpPr/>
          <p:nvPr/>
        </p:nvSpPr>
        <p:spPr>
          <a:xfrm>
            <a:off x="2714760" y="214200"/>
            <a:ext cx="3806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8 Metin kutusu"/>
          <p:cNvSpPr/>
          <p:nvPr/>
        </p:nvSpPr>
        <p:spPr>
          <a:xfrm>
            <a:off x="357120" y="1785960"/>
            <a:ext cx="8358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Regarding to the weaknesses of iPad, I can say that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pple's marketing strategy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is to create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 popular consumer device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with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adding business functionality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Despite some disadvantages , Apple  sold so many iPad in US. That s why they delayed their launching date in Europ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Although, it has lots of features  for users it  still has a big gap to be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6 Slayt Numarası Yer Tutucusu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CF55-B6BE-47F7-B525-B01C9972A41D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3 Resim" descr="send-share-export-for-ipad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115" name="4 Metin kutusu"/>
          <p:cNvSpPr/>
          <p:nvPr/>
        </p:nvSpPr>
        <p:spPr>
          <a:xfrm>
            <a:off x="1357200" y="415800"/>
            <a:ext cx="6000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Calibri"/>
              </a:rPr>
              <a:t>.. my opinion i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5 Metin kutusu"/>
          <p:cNvSpPr/>
          <p:nvPr/>
        </p:nvSpPr>
        <p:spPr>
          <a:xfrm>
            <a:off x="357120" y="1359000"/>
            <a:ext cx="8358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iPad is a great device to consume content and make presentations, but it s not a comp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iPad is an expensive and enjoyable media- play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People do buy iPad  for  media entertainment  , not for necess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You can buy  a netbook  which  is cheaper than iP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It would be more appropriate  brand name if  it might  have created a sense of revolution or a sense of innov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6 Slayt Numarası Yer Tutucusu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6D10-CF2F-4AC5-A191-84BDFCE707E4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http://images.apple.com/home/images/ipad_hero_20100403.png"/>
          <p:cNvPicPr/>
          <p:nvPr/>
        </p:nvPicPr>
        <p:blipFill>
          <a:blip r:embed="rId1"/>
          <a:stretch/>
        </p:blipFill>
        <p:spPr>
          <a:xfrm>
            <a:off x="0" y="1857240"/>
            <a:ext cx="9101160" cy="4857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iPad is here."/>
          <p:cNvPicPr/>
          <p:nvPr/>
        </p:nvPicPr>
        <p:blipFill>
          <a:blip r:embed="rId2"/>
          <a:stretch/>
        </p:blipFill>
        <p:spPr>
          <a:xfrm>
            <a:off x="3143160" y="1357200"/>
            <a:ext cx="2667240" cy="4287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1785960" y="285840"/>
            <a:ext cx="6019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s for all your attentio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4 Slayt Numarası Yer Tutucusu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982C-393E-455A-AAA8-F248A7410F6A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tl00_MainContentPlaceHolder_imgArticleImage" descr="How Apple's iPad will revolutionise media and marketing"/>
          <p:cNvPicPr/>
          <p:nvPr/>
        </p:nvPicPr>
        <p:blipFill>
          <a:blip r:embed="rId1"/>
          <a:stretch/>
        </p:blipFill>
        <p:spPr>
          <a:xfrm>
            <a:off x="71280" y="1071720"/>
            <a:ext cx="9001440" cy="5643360"/>
          </a:xfrm>
          <a:prstGeom prst="rect">
            <a:avLst/>
          </a:prstGeom>
          <a:ln w="0">
            <a:noFill/>
          </a:ln>
        </p:spPr>
      </p:pic>
      <p:sp>
        <p:nvSpPr>
          <p:cNvPr id="53" name="4 Metin kutusu"/>
          <p:cNvSpPr/>
          <p:nvPr/>
        </p:nvSpPr>
        <p:spPr>
          <a:xfrm>
            <a:off x="2714760" y="415800"/>
            <a:ext cx="3806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5 Metin kutusu"/>
          <p:cNvSpPr/>
          <p:nvPr/>
        </p:nvSpPr>
        <p:spPr>
          <a:xfrm>
            <a:off x="500040" y="3132000"/>
            <a:ext cx="8143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iPad was launched together with its high expectations for the  consumers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after months of created specul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ress reviews have been mixed with biggest question being "Do I really need one?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During this presentation,I would like to focus on Apple ‘s iPad Marketing Strategy and its SWOT Analysis to clarify the questions in your mi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6 Slayt Numarası Yer Tutucusu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282F-7327-43A0-906B-1A7B6E14D6D6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http://images.apple.com/ipad/specs/images/dimensions_20100127.jpg"/>
          <p:cNvPicPr/>
          <p:nvPr/>
        </p:nvPicPr>
        <p:blipFill>
          <a:blip r:embed="rId1"/>
          <a:stretch/>
        </p:blipFill>
        <p:spPr>
          <a:xfrm>
            <a:off x="33480" y="1096920"/>
            <a:ext cx="9078840" cy="56563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00160" y="417240"/>
            <a:ext cx="478656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Calibri"/>
              </a:rPr>
              <a:t>ABOUT iPad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7 Dikdörtgen"/>
          <p:cNvSpPr/>
          <p:nvPr/>
        </p:nvSpPr>
        <p:spPr>
          <a:xfrm>
            <a:off x="1071720" y="1928880"/>
            <a:ext cx="4572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5 Slayt Numarası Yer Tutucusu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2C30-C267-4118-B82A-CB93AFF0CDE5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4929120" y="1520640"/>
            <a:ext cx="3643560" cy="44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6440" bIns="34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Technical Spec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Height: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9.56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inches (24 c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Width: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7.47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inches (19 c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epth: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0.50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inch (13.4 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Weig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.5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pounds (680 g) Wi-Fi mode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.6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pounds (730 g) Wi-Fi + 3G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http://images.apple.com/ipad/specs/images/dimensions_20100127.jpg"/>
          <p:cNvPicPr/>
          <p:nvPr/>
        </p:nvPicPr>
        <p:blipFill>
          <a:blip r:embed="rId1"/>
          <a:stretch/>
        </p:blipFill>
        <p:spPr>
          <a:xfrm>
            <a:off x="33480" y="1096920"/>
            <a:ext cx="9078840" cy="56563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00160" y="417240"/>
            <a:ext cx="478656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Calibri"/>
              </a:rPr>
              <a:t>ABOUT iPad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5 Slayt Numarası Yer Tutucusu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39A9-97A9-4E96-A272-9E7EFED8B7DC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7 Dikdörtgen"/>
          <p:cNvSpPr/>
          <p:nvPr/>
        </p:nvSpPr>
        <p:spPr>
          <a:xfrm>
            <a:off x="1071720" y="1928880"/>
            <a:ext cx="4572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4929120" y="1503720"/>
            <a:ext cx="364356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6440" bIns="34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6 Metin kutusu"/>
          <p:cNvSpPr/>
          <p:nvPr/>
        </p:nvSpPr>
        <p:spPr>
          <a:xfrm>
            <a:off x="4929120" y="1725480"/>
            <a:ext cx="3429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6GB, 32GB, or 64GB flash d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p to 10 hours of surfing the web on Wi-Fi, watching video, or listening to mu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.7-inch (diagonal) LED-backlit glossy widescreen Multi-Touch display with IPS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24-by-768-pixel resolution at 132 pixels per inch (pp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GHz Apple A4 custom-designed, high-performance, low-power system-on-a-c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4280" y="214200"/>
            <a:ext cx="6715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Calibri"/>
              </a:rPr>
              <a:t>APPLE’s MARKETİNG STRATEG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4 Resim" descr="ipad marketing"/>
          <p:cNvPicPr/>
          <p:nvPr/>
        </p:nvPicPr>
        <p:blipFill>
          <a:blip r:embed="rId1"/>
          <a:stretch/>
        </p:blipFill>
        <p:spPr>
          <a:xfrm>
            <a:off x="142920" y="1071720"/>
            <a:ext cx="8858160" cy="5572080"/>
          </a:xfrm>
          <a:prstGeom prst="rect">
            <a:avLst/>
          </a:prstGeom>
          <a:ln w="0">
            <a:noFill/>
          </a:ln>
        </p:spPr>
      </p:pic>
      <p:sp>
        <p:nvSpPr>
          <p:cNvPr id="69" name="6 Metin kutusu"/>
          <p:cNvSpPr/>
          <p:nvPr/>
        </p:nvSpPr>
        <p:spPr>
          <a:xfrm>
            <a:off x="428760" y="1212840"/>
            <a:ext cx="3857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ffffff"/>
                </a:solidFill>
                <a:uFillTx/>
                <a:latin typeface="Calibri"/>
              </a:rPr>
              <a:t>Marketing Strategy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Create innovative products and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Drive the Consumer Technology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Position itself as the market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Focus on Brand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Continious investment in R&amp;D and respond Consumer nee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5 Slayt Numarası Yer Tutucusu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972F-FC41-44BE-A900-4ED8D78B643C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7 Resim" descr="http://www.blogcdn.com/www.engadget.com/media/2010/01/apple-creation-0335-rm-eng.jpg"/>
          <p:cNvPicPr/>
          <p:nvPr/>
        </p:nvPicPr>
        <p:blipFill>
          <a:blip r:embed="rId1"/>
          <a:stretch/>
        </p:blipFill>
        <p:spPr>
          <a:xfrm>
            <a:off x="214200" y="1143000"/>
            <a:ext cx="8715600" cy="5643720"/>
          </a:xfrm>
          <a:prstGeom prst="rect">
            <a:avLst/>
          </a:prstGeom>
          <a:ln w="0">
            <a:noFill/>
          </a:ln>
        </p:spPr>
      </p:pic>
      <p:sp>
        <p:nvSpPr>
          <p:cNvPr id="72" name="3 Başlık"/>
          <p:cNvSpPr/>
          <p:nvPr/>
        </p:nvSpPr>
        <p:spPr>
          <a:xfrm>
            <a:off x="2000160" y="274680"/>
            <a:ext cx="55008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Calibri"/>
              </a:rPr>
              <a:t>APPLE’s iPad STRATE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5 Metin kutusu"/>
          <p:cNvSpPr/>
          <p:nvPr/>
        </p:nvSpPr>
        <p:spPr>
          <a:xfrm>
            <a:off x="428760" y="1212840"/>
            <a:ext cx="8286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ffffff"/>
                </a:solidFill>
                <a:uFillTx/>
                <a:latin typeface="Calibri"/>
              </a:rPr>
              <a:t>Marketing Strategy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First, Apple launched  iPad in US market than they planned to distribute it  in other countries after 3-4 mon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Apple is targeting  with this new device to replace the netbooks.</a:t>
            </a:r>
            <a:r>
              <a:rPr b="0" lang="tr-TR" sz="2400" spc="-1" strike="noStrike">
                <a:solidFill>
                  <a:srgbClr val="ffffff"/>
                </a:solidFill>
                <a:latin typeface="Calibri"/>
              </a:rPr>
              <a:t> T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he device was aimed to stay between smartphones and lapt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iPad was designed and was developed to browse the web, email, play games and even read e- books – a front in which it will do battle with Amazon’s increasingly popular KİND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6 Slayt Numarası Yer Tutucusu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DD3A-9099-449A-9BF6-D898FAE66665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3 Resim" descr="http://bindapple.com/wp-content/uploads/2010/04/swot-analysis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2214720"/>
            <a:ext cx="4643280" cy="4286160"/>
          </a:xfrm>
          <a:prstGeom prst="rect">
            <a:avLst/>
          </a:prstGeom>
          <a:ln w="0">
            <a:noFill/>
          </a:ln>
        </p:spPr>
      </p:pic>
      <p:sp>
        <p:nvSpPr>
          <p:cNvPr id="76" name="4 Metin kutusu"/>
          <p:cNvSpPr/>
          <p:nvPr/>
        </p:nvSpPr>
        <p:spPr>
          <a:xfrm>
            <a:off x="4929120" y="2070000"/>
            <a:ext cx="421488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Is it worth spending my money 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Is iPad an unnecessary produc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Is iPa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uly</a:t>
            </a: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volutionary and magic product</a:t>
            </a: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http://images.apple.com/ipad/home/images/hero2_20100225.png"/>
          <p:cNvPicPr/>
          <p:nvPr/>
        </p:nvPicPr>
        <p:blipFill>
          <a:blip r:embed="rId3"/>
          <a:stretch/>
        </p:blipFill>
        <p:spPr>
          <a:xfrm>
            <a:off x="142920" y="98280"/>
            <a:ext cx="1630440" cy="19735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57280" y="571680"/>
            <a:ext cx="6072480" cy="65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Calibri"/>
              </a:rPr>
              <a:t>DO I REALLY NEED ON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7 Slayt Numarası Yer Tutucusu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C2D4-EA44-49A0-93E4-9FD8B093A779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3 Resim" descr="keynote-on-ipad.jpg"/>
          <p:cNvPicPr/>
          <p:nvPr/>
        </p:nvPicPr>
        <p:blipFill>
          <a:blip r:embed="rId1"/>
          <a:stretch/>
        </p:blipFill>
        <p:spPr>
          <a:xfrm>
            <a:off x="142920" y="785880"/>
            <a:ext cx="8786880" cy="5929200"/>
          </a:xfrm>
          <a:prstGeom prst="rect">
            <a:avLst/>
          </a:prstGeom>
          <a:ln w="0">
            <a:noFill/>
          </a:ln>
        </p:spPr>
      </p:pic>
      <p:sp>
        <p:nvSpPr>
          <p:cNvPr id="81" name="4 Metin kutusu"/>
          <p:cNvSpPr/>
          <p:nvPr/>
        </p:nvSpPr>
        <p:spPr>
          <a:xfrm>
            <a:off x="428760" y="1000080"/>
            <a:ext cx="835812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ffffff"/>
                </a:solidFill>
                <a:uFillTx/>
                <a:latin typeface="Calibri"/>
              </a:rPr>
              <a:t>Streng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New technology :  is the best merge between a smartphone and a note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User – Friendly  : the user interface is easy to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Super slim and  light-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Multi - touch screen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Display and ability to read much larger blocks of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5 Metin kutusu"/>
          <p:cNvSpPr/>
          <p:nvPr/>
        </p:nvSpPr>
        <p:spPr>
          <a:xfrm>
            <a:off x="2928960" y="142920"/>
            <a:ext cx="339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tr-TR" sz="3600" spc="-1" strike="noStrike">
                <a:solidFill>
                  <a:srgbClr val="000000"/>
                </a:solidFill>
                <a:latin typeface="Calibri"/>
              </a:rPr>
              <a:t>WOT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6 Slayt Numarası Yer Tutucusu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95D1-075B-47CE-9EC9-DA3F4D47342E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3 İçerik Yer Tutucusu" descr="keynote-over-vga-on-ipad.jpg"/>
          <p:cNvPicPr/>
          <p:nvPr/>
        </p:nvPicPr>
        <p:blipFill>
          <a:blip r:embed="rId1"/>
          <a:stretch/>
        </p:blipFill>
        <p:spPr>
          <a:xfrm>
            <a:off x="214200" y="928800"/>
            <a:ext cx="8715600" cy="5643360"/>
          </a:xfrm>
          <a:prstGeom prst="rect">
            <a:avLst/>
          </a:prstGeom>
          <a:ln w="0">
            <a:noFill/>
          </a:ln>
        </p:spPr>
      </p:pic>
      <p:sp>
        <p:nvSpPr>
          <p:cNvPr id="85" name="5 Dikdörtgen"/>
          <p:cNvSpPr/>
          <p:nvPr/>
        </p:nvSpPr>
        <p:spPr>
          <a:xfrm>
            <a:off x="500040" y="1509840"/>
            <a:ext cx="82152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It’s a very cool presentation device : Sales people and anybody who makes presentation can load their PowerPoint files to a folder in iTunes and open them in Key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Stunning vis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Absolutely beautiful extern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Super fast  wi-fi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6 Metin kutusu"/>
          <p:cNvSpPr/>
          <p:nvPr/>
        </p:nvSpPr>
        <p:spPr>
          <a:xfrm>
            <a:off x="2835720" y="142920"/>
            <a:ext cx="336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tr-TR" sz="3600" spc="-1" strike="noStrike">
                <a:solidFill>
                  <a:srgbClr val="000000"/>
                </a:solidFill>
                <a:latin typeface="Calibri"/>
              </a:rPr>
              <a:t>WOT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4 Slayt Numarası Yer Tutucusu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5648-C4D7-4A17-9046-281A6237C125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1:34:20Z</dcterms:created>
  <dc:creator>Fatih Ünal</dc:creator>
  <dc:description/>
  <cp:keywords>ipad presentation</cp:keywords>
  <dc:language>en-US</dc:language>
  <cp:lastModifiedBy> Fatih Ünal</cp:lastModifiedBy>
  <dcterms:modified xsi:type="dcterms:W3CDTF">2010-09-19T16:34:10Z</dcterms:modified>
  <cp:revision>186</cp:revision>
  <dc:subject>ipad presentation</dc:subject>
  <dc:title>ipad presentation</dc:title>
</cp:coreProperties>
</file>