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6151-3375-4215-9AFC-7016EB6B1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B32B-8AB5-4DB1-9DB2-598269F52E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8815-A0CC-44A9-914F-37B30ACD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0DA0-3CDE-4FD6-9AE9-037CE5B8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FF5C-28AF-4B35-AA8E-88CC36F6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C44-4865-411A-806E-52392AA2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D636-57BF-4526-A204-E5C262FC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73AF-1CC7-4DAA-B977-3EA02C50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60B0-992C-423B-98A2-110E665B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3F37-A9FC-47DB-B965-DE35DC5D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D2EA-B7DA-46AD-9403-9A8B2F15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53EB-16FD-454D-8A56-B5817F99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DBF6-31BF-468D-BBF3-5F0623C8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41CA-2F9F-4373-8E2D-C1D759F9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0E34-8081-4D06-B8AE-BF7DDD78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A8E6-C440-453C-8E47-68F9DF3D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1E50-6D3B-4997-BE3E-205E1928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E1C6-EBB2-4C89-8869-7EFDB726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ED4B-61E6-45BE-B353-DA1B4FF5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E1BE-49F8-45B3-9E16-953109E4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03D-158F-43E8-967C-71963085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DAC7-2D1C-47FA-9F73-EA114A90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476F-6ADA-414D-B2F6-9C6AE517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00C7-E7E3-4786-A24D-401AD40D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2ABA-2B3F-411E-9A79-C8A8B8BD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C03-4DA4-4CE6-8DEF-0F641C7A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8A13-11F5-49E7-9767-5511ED6E7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A9A6-4F91-4DA9-923D-71C70BA7D0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understand fundamental concepts and terminology used in marke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further develop their analytic reasoning and problem-solving skills in a marketing management setting, especially with respec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standing social, political, economic and competitive environment, their interrelationships, and their influences on marketing actions,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ing marketing decision variables in design of marketing strategi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develop a foundation for further study in marketing and other business areas;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ractice interpersonal communication and writing skills consistent with contemporary marketing management and business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develop more value-added and the final recommendations to decision makers for the following decision are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260280"/>
            <a:ext cx="8229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600" spc="-1" strike="noStrike">
                <a:solidFill>
                  <a:srgbClr val="ffffff"/>
                </a:solidFill>
                <a:latin typeface="Arial"/>
              </a:rPr>
              <a:t>MARKETING MANAGEMENT</a:t>
            </a:r>
            <a:r>
              <a:rPr b="1" i="1" lang="tr-T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tr-T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tr-TR" sz="1600" spc="-1" strike="noStrike">
                <a:solidFill>
                  <a:srgbClr val="ffffff"/>
                </a:solidFill>
                <a:latin typeface="Arial"/>
              </a:rPr>
              <a:t>         PROF.DR. KEMAL KURTULU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 Through Adaptation and Custo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ation process and new product adap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ption patterns and lifesty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ole of custo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Marrio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Ques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What is the role of marketing he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 Through Continuous Product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product impr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 u="sng">
                <a:solidFill>
                  <a:srgbClr val="ffffff"/>
                </a:solidFill>
                <a:uFillTx/>
                <a:latin typeface="Arial"/>
              </a:rPr>
              <a:t>Case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: Whirlp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Question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role of marketing he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 Through Product Inno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roduct development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ational alternatives for new product develop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 u="sng">
                <a:solidFill>
                  <a:srgbClr val="ffffff"/>
                </a:solidFill>
                <a:uFillTx/>
                <a:latin typeface="Arial"/>
              </a:rPr>
              <a:t>Case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: Cadill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Question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role of marketing he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 Through Entering High-Growth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research and analy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ing market attractiv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 u="sng">
                <a:solidFill>
                  <a:srgbClr val="ffffff"/>
                </a:solidFill>
                <a:uFillTx/>
                <a:latin typeface="Arial"/>
              </a:rPr>
              <a:t>Case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: Tom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Question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role of marketing he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 Through Exceeding Customer Expec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 expec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 satisf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 loyalty and re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based marketing and d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ta m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 u="sng">
                <a:solidFill>
                  <a:srgbClr val="ffffff"/>
                </a:solidFill>
                <a:uFillTx/>
                <a:latin typeface="Arial"/>
              </a:rPr>
              <a:t>Case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: Wainwright 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Question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role of marketing he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 Through Market Response and Ag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ability to respond market conditions faster than compet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 u="sng">
                <a:solidFill>
                  <a:srgbClr val="ffffff"/>
                </a:solidFill>
                <a:uFillTx/>
                <a:latin typeface="Arial"/>
              </a:rPr>
              <a:t>Case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: Whirlp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Question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role of marketing he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Vision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267120" y="159984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1520" indent="-28620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nita Roddick           The Body Sho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1520" indent="-28620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Fred Smith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            Federal Expres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1520" indent="-28620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teve Jobs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            Apple Comput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1520" indent="-28620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Bill Gates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            Microsof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1520" indent="-28620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Michael Dell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            Dell Comput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1520" indent="-28620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Ray Kroc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            McDonald’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1520" indent="-28620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Walt Disney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            Disney Worl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1520" indent="-28620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am Walton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            Wal-Mar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1520" indent="-28620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Tom Monaghan         Domino’s Pizz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1520" indent="-28620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kio Morita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            Son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1520" indent="-28620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Nicholas Hayek         Swatch Watch Co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1520" indent="-28620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John W.Nordstrom   Nordstro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1520" indent="-28620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Gilbert Trigano          Club Mediterrane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1520" indent="-28620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Ted Turner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            CN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1520" indent="-28620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Frank Perdue             Perdue Chick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4229280" y="1600200"/>
            <a:ext cx="5867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0960" indent="-42696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Richard Branson     Virgin Ai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80960" indent="-42696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oichiro Honda        Hond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80960" indent="-42696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imon Marks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           Marks&amp;Spenc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80960" indent="-42696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Luciano Benetton    Benett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80960" indent="-42696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harles Lazarus       Toys ‘R’ U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80960" indent="-42696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Les Wexner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           The Limite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80960" indent="-426960">
              <a:spcBef>
                <a:spcPts val="400"/>
              </a:spcBef>
              <a:buClr>
                <a:srgbClr val="86d1ec"/>
              </a:buClr>
              <a:buSzPct val="90000"/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lonel Sanders      Kentucky Frie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ick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80960" indent="-42696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Ingvar Kamprad       IKE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80960" indent="-42696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Bernie Marcus         Home Depo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80960" indent="-42696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harles Schwab      Charles Schwab&amp;Co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80960" indent="-42696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Herb Kelleher           Southwest Airlin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80960" indent="-42696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Paul Orfalea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           Kinko’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80960" indent="-42696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Jeff Bezos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           Amaz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80960" indent="-42696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Jim McCann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           1-800-FLOWER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80960" indent="-426960">
              <a:spcBef>
                <a:spcPts val="425"/>
              </a:spcBef>
              <a:buClr>
                <a:srgbClr val="86d1ec"/>
              </a:buClr>
              <a:buSzPct val="90000"/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Phil Knight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           Nik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Group 5"/>
          <p:cNvGrpSpPr/>
          <p:nvPr/>
        </p:nvGrpSpPr>
        <p:grpSpPr>
          <a:xfrm>
            <a:off x="0" y="990720"/>
            <a:ext cx="8915040" cy="459720"/>
            <a:chOff x="0" y="990720"/>
            <a:chExt cx="8915040" cy="459720"/>
          </a:xfrm>
        </p:grpSpPr>
        <p:grpSp>
          <p:nvGrpSpPr>
            <p:cNvPr id="195" name="Group 6"/>
            <p:cNvGrpSpPr/>
            <p:nvPr/>
          </p:nvGrpSpPr>
          <p:grpSpPr>
            <a:xfrm>
              <a:off x="0" y="990720"/>
              <a:ext cx="4419360" cy="459720"/>
              <a:chOff x="0" y="990720"/>
              <a:chExt cx="4419360" cy="459720"/>
            </a:xfrm>
          </p:grpSpPr>
          <p:sp>
            <p:nvSpPr>
              <p:cNvPr id="196" name="Text Box 7"/>
              <p:cNvSpPr/>
              <p:nvPr/>
            </p:nvSpPr>
            <p:spPr>
              <a:xfrm>
                <a:off x="0" y="990720"/>
                <a:ext cx="4400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r>
                  <a:rPr b="1" lang="tr-TR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ea</a:t>
                </a:r>
                <a:r>
                  <a:rPr b="1" lang="tr-TR" sz="1800" spc="-1" strike="noStrike">
                    <a:solidFill>
                      <a:srgbClr val="ffffff"/>
                    </a:solidFill>
                    <a:latin typeface="Arial"/>
                  </a:rPr>
                  <a:t>der                     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ompan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8"/>
              <p:cNvSpPr/>
              <p:nvPr/>
            </p:nvSpPr>
            <p:spPr>
              <a:xfrm>
                <a:off x="60120" y="1030320"/>
                <a:ext cx="4359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9"/>
              <p:cNvSpPr/>
              <p:nvPr/>
            </p:nvSpPr>
            <p:spPr>
              <a:xfrm>
                <a:off x="53280" y="1411200"/>
                <a:ext cx="4359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10"/>
            <p:cNvGrpSpPr/>
            <p:nvPr/>
          </p:nvGrpSpPr>
          <p:grpSpPr>
            <a:xfrm>
              <a:off x="4495680" y="990720"/>
              <a:ext cx="4419360" cy="459720"/>
              <a:chOff x="4495680" y="990720"/>
              <a:chExt cx="4419360" cy="459720"/>
            </a:xfrm>
          </p:grpSpPr>
          <p:sp>
            <p:nvSpPr>
              <p:cNvPr id="200" name="Text Box 11"/>
              <p:cNvSpPr/>
              <p:nvPr/>
            </p:nvSpPr>
            <p:spPr>
              <a:xfrm>
                <a:off x="4495680" y="990720"/>
                <a:ext cx="4400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r>
                  <a:rPr b="1" lang="tr-TR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ea</a:t>
                </a:r>
                <a:r>
                  <a:rPr b="1" lang="tr-TR" sz="1800" spc="-1" strike="noStrike">
                    <a:solidFill>
                      <a:srgbClr val="ffffff"/>
                    </a:solidFill>
                    <a:latin typeface="Arial"/>
                  </a:rPr>
                  <a:t>der </a:t>
                </a:r>
                <a:r>
                  <a:rPr b="1" lang="tr-TR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tr-TR" sz="18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ompan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12"/>
              <p:cNvSpPr/>
              <p:nvPr/>
            </p:nvSpPr>
            <p:spPr>
              <a:xfrm>
                <a:off x="4555800" y="1030320"/>
                <a:ext cx="4359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13"/>
              <p:cNvSpPr/>
              <p:nvPr/>
            </p:nvSpPr>
            <p:spPr>
              <a:xfrm>
                <a:off x="4548960" y="1411200"/>
                <a:ext cx="4359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rements for Developing Successful Marketing Strate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market conditions and dynamics should be well studied and understoo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trends in world marke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s are becoming more knowledgeable and price conscio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s are looking for more “convenience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te label and generic products are taking significant market shares in many indus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 expectations regarding services are increas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iers loyalty are decreas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Questions in Developing Marketing Strategies and Tac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select target market segm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differentiate from competito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respond customers low price expecta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compete with local, national, international low priced competito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far can we go in customiz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lternative growth strategies do we ha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an we build strong bran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Questions in Developing Marketing Strategies and Tac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can we respond to increasing consumer pow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can we create long term customer loyalty and reten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can we calculate customer life-time value and segment th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can we measure effectiveness of advertising, sales, promotion and PR activiti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can we increase productivity of sales for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can we select the optimum channel strategy and manage the channel conflic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can we make the other departments more customer orien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Marketing Decision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68360" y="1297080"/>
          <a:ext cx="8351640" cy="5732280"/>
        </p:xfrm>
        <a:graphic>
          <a:graphicData uri="http://schemas.openxmlformats.org/drawingml/2006/table">
            <a:tbl>
              <a:tblPr/>
              <a:tblGrid>
                <a:gridCol w="4178160"/>
                <a:gridCol w="4173480"/>
              </a:tblGrid>
              <a:tr h="573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Objectives and Strateg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zing Marketing Opportunit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ing Market Segments and Selecting Target Mark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tiation and Positio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cing Decis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 Manag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ing Marketing Communic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ing Advertis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ing P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ing Promo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ing Direct Marke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 startAt="1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ing Customer Ser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 startAt="1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ship Marketing Manag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 startAt="1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ing Distribution Channe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 startAt="1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ing Physical Distribution and Logist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 startAt="1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e Marke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 startAt="1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Information and Intelligent Syste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 startAt="1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 Equity Measurements and Comparis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 startAt="1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s Manag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 startAt="1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s Perform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 startAt="1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Organiz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 startAt="1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ud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itional Problems for Manufacturing Brand Compan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ing profit marg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sales and promotion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power of reta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competition of private labels, especially store brands and generic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niche at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Retailer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ing profit marg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competition from category kil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competition of direct marketing especially internet, catalog and mail delivery 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olution of Marketing Con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understand present and possible future directions of marketing, evolution of the concept should be examined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ing is changing, improving, renewing concept (Marketing Relativism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era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72f4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ion 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72f4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 and Quality 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72f4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les 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72f4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ting 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72f4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onship Marketing 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75564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volution of Marketing Concep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4"/>
          <p:cNvSpPr/>
          <p:nvPr/>
        </p:nvSpPr>
        <p:spPr>
          <a:xfrm>
            <a:off x="685800" y="2209680"/>
            <a:ext cx="8077320" cy="4419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219320" y="1676520"/>
            <a:ext cx="495288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od Product Sells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3635280" y="2666880"/>
            <a:ext cx="4899240" cy="114300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lling Through Advertis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alesman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179280" y="4076640"/>
            <a:ext cx="419112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stomer is the K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udy Market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d a G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3569400" y="5661000"/>
            <a:ext cx="4091400" cy="947160"/>
          </a:xfrm>
          <a:prstGeom prst="rect">
            <a:avLst/>
          </a:prstGeom>
          <a:solidFill>
            <a:srgbClr val="f7e0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tionship Mark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C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68436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ales Concep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457200" y="2708280"/>
            <a:ext cx="8305920" cy="2438280"/>
          </a:xfrm>
          <a:prstGeom prst="rightArrow">
            <a:avLst>
              <a:gd name="adj1" fmla="val 70315"/>
              <a:gd name="adj2" fmla="val 7524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459000" y="1711440"/>
            <a:ext cx="1262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tarting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2362320" y="1752480"/>
            <a:ext cx="1839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Focu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267080" y="1752480"/>
            <a:ext cx="1571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ea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6662880" y="1828800"/>
            <a:ext cx="833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En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441360" y="3521160"/>
            <a:ext cx="1555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e72f45"/>
                </a:solidFill>
                <a:latin typeface="Arial"/>
              </a:rPr>
              <a:t>Factor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2348280" y="3521160"/>
            <a:ext cx="1335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e72f45"/>
                </a:solidFill>
                <a:latin typeface="Arial"/>
              </a:rPr>
              <a:t>Produc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4116600" y="3416400"/>
            <a:ext cx="1680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e72f45"/>
                </a:solidFill>
                <a:latin typeface="Arial"/>
              </a:rPr>
              <a:t>Selling and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e72f45"/>
                </a:solidFill>
                <a:latin typeface="Arial"/>
              </a:rPr>
              <a:t>promoting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6059160" y="3416400"/>
            <a:ext cx="2181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e72f45"/>
                </a:solidFill>
                <a:latin typeface="Arial"/>
              </a:rPr>
              <a:t>Profits through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e72f45"/>
                </a:solidFill>
                <a:latin typeface="Arial"/>
              </a:rPr>
              <a:t>Sales volum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s of Old Marketing Concep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ing is s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ead of customer satisfaction and loyalty, increasing number of cust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ead of customers life-time value maximizing short-term sales and pro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ead of target pricing using mark-up pri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ead of integrated marketing communication focusing on each peace one by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ead of understanding customer desires and expectations focusing on selling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6858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rketing Concep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457200" y="2852640"/>
            <a:ext cx="8435880" cy="2438640"/>
          </a:xfrm>
          <a:prstGeom prst="rightArrow">
            <a:avLst>
              <a:gd name="adj1" fmla="val 70315"/>
              <a:gd name="adj2" fmla="val 76408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460080" y="1698480"/>
            <a:ext cx="13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art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362320" y="1752480"/>
            <a:ext cx="183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c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4267080" y="1752480"/>
            <a:ext cx="157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6387120" y="181620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n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441360" y="3517920"/>
            <a:ext cx="155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b46d0"/>
                </a:solidFill>
                <a:latin typeface="Arial"/>
              </a:rPr>
              <a:t>Targe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b46d0"/>
                </a:solidFill>
                <a:latin typeface="Arial"/>
              </a:rPr>
              <a:t>Mark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2349000" y="35053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b46d0"/>
                </a:solidFill>
                <a:latin typeface="Arial"/>
              </a:rPr>
              <a:t>Custom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b46d0"/>
                </a:solidFill>
                <a:latin typeface="Arial"/>
              </a:rPr>
              <a:t>Nee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4118400" y="3463920"/>
            <a:ext cx="157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b46d0"/>
                </a:solidFill>
                <a:latin typeface="Arial"/>
              </a:rPr>
              <a:t>Integra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7b46d0"/>
                </a:solidFill>
                <a:latin typeface="Arial"/>
              </a:rPr>
              <a:t>Marke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6159960" y="3284640"/>
            <a:ext cx="17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b46d0"/>
                </a:solidFill>
                <a:latin typeface="Arial"/>
              </a:rPr>
              <a:t>Profit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b46d0"/>
                </a:solidFill>
                <a:latin typeface="Arial"/>
              </a:rPr>
              <a:t>Through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b46d0"/>
                </a:solidFill>
                <a:latin typeface="Arial"/>
              </a:rPr>
              <a:t>Custom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b46d0"/>
                </a:solidFill>
                <a:latin typeface="Arial"/>
              </a:rPr>
              <a:t>Satisfa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Arial"/>
              </a:rPr>
              <a:t>Customer Concep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457200" y="2852640"/>
            <a:ext cx="8435880" cy="2438640"/>
          </a:xfrm>
          <a:prstGeom prst="rightArrow">
            <a:avLst>
              <a:gd name="adj1" fmla="val 70315"/>
              <a:gd name="adj2" fmla="val 76408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460080" y="1698480"/>
            <a:ext cx="13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art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2362320" y="1752480"/>
            <a:ext cx="183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c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267080" y="1752480"/>
            <a:ext cx="157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6387120" y="181620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n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441360" y="3505320"/>
            <a:ext cx="155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7b46d0"/>
                </a:solidFill>
                <a:latin typeface="Arial"/>
              </a:rPr>
              <a:t>Individual Custom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2349000" y="3352680"/>
            <a:ext cx="156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b46d0"/>
                </a:solidFill>
                <a:latin typeface="Arial"/>
              </a:rPr>
              <a:t>Custom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b46d0"/>
                </a:solidFill>
                <a:latin typeface="Arial"/>
              </a:rPr>
              <a:t>Needs</a:t>
            </a:r>
            <a:r>
              <a:rPr b="1" lang="tr-TR" sz="2200" spc="-1" strike="noStrike">
                <a:solidFill>
                  <a:srgbClr val="7b46d0"/>
                </a:solidFill>
                <a:latin typeface="Arial"/>
              </a:rPr>
              <a:t> &amp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7b46d0"/>
                </a:solidFill>
                <a:latin typeface="Arial"/>
              </a:rPr>
              <a:t>Val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3813480" y="3276720"/>
            <a:ext cx="205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7b46d0"/>
                </a:solidFill>
                <a:latin typeface="Arial"/>
              </a:rPr>
              <a:t>One to O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7b46d0"/>
                </a:solidFill>
                <a:latin typeface="Arial"/>
              </a:rPr>
              <a:t>Marke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7b46d0"/>
                </a:solidFill>
                <a:latin typeface="Arial"/>
              </a:rPr>
              <a:t>Integ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7b46d0"/>
                </a:solidFill>
                <a:latin typeface="Arial"/>
              </a:rPr>
              <a:t>&amp; Value Chai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5869080" y="3333600"/>
            <a:ext cx="293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7b46d0"/>
                </a:solidFill>
                <a:latin typeface="Arial"/>
              </a:rPr>
              <a:t>Profitable Grow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7b46d0"/>
                </a:solidFill>
                <a:latin typeface="Arial"/>
              </a:rPr>
              <a:t>Through captur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7b46d0"/>
                </a:solidFill>
                <a:latin typeface="Arial"/>
              </a:rPr>
              <a:t>Customer Share, Loyal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7b46d0"/>
                </a:solidFill>
                <a:latin typeface="Arial"/>
              </a:rPr>
              <a:t>and Lifetime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ARKE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of planning and executing the conception, pricing, promotion and distribution of ideas, goods, services, organizations, and events to create and maintain relationships that satisfy individual and organizational objectiv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68436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cial Marke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1905120" y="2362320"/>
            <a:ext cx="5562360" cy="3200400"/>
          </a:xfrm>
          <a:prstGeom prst="triangle">
            <a:avLst>
              <a:gd name="adj" fmla="val 48347"/>
            </a:avLst>
          </a:prstGeom>
          <a:solidFill>
            <a:srgbClr val="339966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749760" y="3767040"/>
            <a:ext cx="1744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429000" y="1535040"/>
            <a:ext cx="2487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elf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03480" y="5508720"/>
            <a:ext cx="2812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stomer Nee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Wa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6857280" y="5508720"/>
            <a:ext cx="1690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fi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: What might be the potential conflict sources between marketing decision makers and the marketing researchers,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57200" y="277920"/>
            <a:ext cx="8229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600" spc="-1" strike="noStrike">
                <a:solidFill>
                  <a:srgbClr val="ffffff"/>
                </a:solidFill>
                <a:latin typeface="Arial"/>
              </a:rPr>
              <a:t>MARKETING MANAGEMENT</a:t>
            </a:r>
            <a:r>
              <a:rPr b="1" i="1" lang="tr-T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tr-T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tr-TR" sz="1600" spc="-1" strike="noStrike">
                <a:solidFill>
                  <a:srgbClr val="ffffff"/>
                </a:solidFill>
                <a:latin typeface="Arial"/>
              </a:rPr>
              <a:t>         PROF.DR. KEMAL KURTULU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684360" y="270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lationship Marke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3"/>
          <p:cNvSpPr/>
          <p:nvPr/>
        </p:nvSpPr>
        <p:spPr>
          <a:xfrm>
            <a:off x="1371600" y="1611360"/>
            <a:ext cx="6248520" cy="48006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4"/>
          <p:cNvSpPr/>
          <p:nvPr/>
        </p:nvSpPr>
        <p:spPr>
          <a:xfrm>
            <a:off x="3276720" y="2906640"/>
            <a:ext cx="2590560" cy="19814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4572000" y="161136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4572000" y="4888080"/>
            <a:ext cx="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371600" y="389736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5867280" y="3897360"/>
            <a:ext cx="175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3407400" y="3357720"/>
            <a:ext cx="231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tion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4425120" y="1838160"/>
            <a:ext cx="21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pa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792760" y="4734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2028960" y="224964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2093040" y="484200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ipro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ationship Marke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 and maintenance of long term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-effective exchange relationships wi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 customers, suppliers, employe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ther partners for mutual benef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onship marketing is a complex process. It includes company employees, all the suppliers, all the trade members and the customers. All these part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artners) should win (win-win strategy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onship Marketing Concept reflects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s by using CR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er Share” conce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et segment profi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er profi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ribution channel profi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ritory profitabil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us, customer satisfaction, loyalty and retention and finally   customer life-time value is import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loyee Satisf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y Chain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egic Alli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brella Br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-adverti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-bra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-marke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wo Mistaken Views of Mark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ing is selling. Selling is only a part or a stage in marke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ing is a department. All of the departments in a company have to be customer oriented. (R&amp;D, Buying, Production, Marketing, Sales, Logistics, Accounting, Finance, P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2"/>
          <p:cNvSpPr/>
          <p:nvPr/>
        </p:nvSpPr>
        <p:spPr>
          <a:xfrm>
            <a:off x="900000" y="1700280"/>
            <a:ext cx="863640" cy="287280"/>
          </a:xfrm>
          <a:prstGeom prst="rightArrow">
            <a:avLst>
              <a:gd name="adj1" fmla="val 50000"/>
              <a:gd name="adj2" fmla="val 7515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3"/>
          <p:cNvSpPr/>
          <p:nvPr/>
        </p:nvSpPr>
        <p:spPr>
          <a:xfrm>
            <a:off x="2627280" y="1700280"/>
            <a:ext cx="863640" cy="287280"/>
          </a:xfrm>
          <a:prstGeom prst="rightArrow">
            <a:avLst>
              <a:gd name="adj1" fmla="val 50000"/>
              <a:gd name="adj2" fmla="val 7515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211640" y="1700280"/>
            <a:ext cx="863640" cy="287280"/>
          </a:xfrm>
          <a:prstGeom prst="rightArrow">
            <a:avLst>
              <a:gd name="adj1" fmla="val 50000"/>
              <a:gd name="adj2" fmla="val 7515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292720" y="1700280"/>
            <a:ext cx="863640" cy="287280"/>
          </a:xfrm>
          <a:prstGeom prst="rightArrow">
            <a:avLst>
              <a:gd name="adj1" fmla="val 50000"/>
              <a:gd name="adj2" fmla="val 7515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Steps in Marketing Management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    STP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  MM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 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STP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gmentation, Targeting, and Positi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MM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ing mix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(4P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, Price, Place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Promo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keting Plan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different types of planning at different levels and different time periods. From top to bott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egic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ctical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onal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: Why does planning start at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es of Strategic Analy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835280" y="1413000"/>
            <a:ext cx="685152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W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C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2895480" y="0"/>
            <a:ext cx="3429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SWOT An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685800" y="469800"/>
            <a:ext cx="2273400" cy="295920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692280" y="3740040"/>
            <a:ext cx="2273040" cy="295920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6178680" y="3740040"/>
            <a:ext cx="2273040" cy="29592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6178680" y="539640"/>
            <a:ext cx="2273040" cy="295920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3352680" y="2209680"/>
            <a:ext cx="2438640" cy="0"/>
          </a:xfrm>
          <a:prstGeom prst="line">
            <a:avLst/>
          </a:prstGeom>
          <a:ln w="127080">
            <a:solidFill>
              <a:srgbClr val="7b46d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3352680" y="5486400"/>
            <a:ext cx="2438640" cy="0"/>
          </a:xfrm>
          <a:prstGeom prst="line">
            <a:avLst/>
          </a:prstGeom>
          <a:ln w="127080">
            <a:solidFill>
              <a:srgbClr val="7b46d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 flipH="1">
            <a:off x="3048120" y="3352680"/>
            <a:ext cx="3047760" cy="6858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3048120" y="3352680"/>
            <a:ext cx="2971800" cy="60984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821880" y="82224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treng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821880" y="3645000"/>
            <a:ext cx="174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eakn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6383160" y="822240"/>
            <a:ext cx="201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pport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6460560" y="4022640"/>
            <a:ext cx="1201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hre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662760" y="1401840"/>
            <a:ext cx="23691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ost advant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inancial resou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ustomer Loyal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Modern Produc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ac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imes New Roman"/>
              </a:rPr>
              <a:t>*Patent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587520" y="3906720"/>
            <a:ext cx="246492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Too narrow 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product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Lack of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ep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High-cost o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ue to high lab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osts and obso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production fac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Weak market  im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6075000" y="1477800"/>
            <a:ext cx="23173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dd to product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Enter new mark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cquire firms wi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needed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6072840" y="4527720"/>
            <a:ext cx="24469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hanging buy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tas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Likely entry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new competi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dverse gover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poli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3943440" y="5546880"/>
            <a:ext cx="1422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3762360" y="1736640"/>
            <a:ext cx="1387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21"/>
          <p:cNvSpPr/>
          <p:nvPr/>
        </p:nvSpPr>
        <p:spPr>
          <a:xfrm rot="20700000">
            <a:off x="3182760" y="3852360"/>
            <a:ext cx="134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ra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22"/>
          <p:cNvSpPr/>
          <p:nvPr/>
        </p:nvSpPr>
        <p:spPr>
          <a:xfrm rot="720000">
            <a:off x="4623480" y="3879360"/>
            <a:ext cx="1696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ulnera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-270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BC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1149480" y="971640"/>
            <a:ext cx="3644640" cy="2806560"/>
          </a:xfrm>
          <a:prstGeom prst="rect">
            <a:avLst/>
          </a:prstGeom>
          <a:solidFill>
            <a:srgbClr val="7b46d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1149480" y="3790800"/>
            <a:ext cx="3566880" cy="280692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4716360" y="981000"/>
            <a:ext cx="3645000" cy="2806920"/>
          </a:xfrm>
          <a:prstGeom prst="rect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4716360" y="3790800"/>
            <a:ext cx="3672000" cy="2806920"/>
          </a:xfrm>
          <a:prstGeom prst="rect">
            <a:avLst/>
          </a:prstGeom>
          <a:solidFill>
            <a:srgbClr val="99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1964880" y="1208160"/>
            <a:ext cx="97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St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5469840" y="1208160"/>
            <a:ext cx="264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Question Ma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1661040" y="3951360"/>
            <a:ext cx="187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ash C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6011640" y="3951360"/>
            <a:ext cx="102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7b46d0"/>
                </a:solidFill>
                <a:latin typeface="Times New Roman"/>
              </a:rPr>
              <a:t>Dogs</a:t>
            </a:r>
            <a:r>
              <a:rPr b="1" lang="tr-TR" sz="2800" spc="-1" strike="noStrike">
                <a:solidFill>
                  <a:srgbClr val="7b46d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1202040" y="568440"/>
            <a:ext cx="829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2"/>
          <p:cNvSpPr/>
          <p:nvPr/>
        </p:nvSpPr>
        <p:spPr>
          <a:xfrm>
            <a:off x="7556760" y="568440"/>
            <a:ext cx="75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3"/>
          <p:cNvSpPr/>
          <p:nvPr/>
        </p:nvSpPr>
        <p:spPr>
          <a:xfrm>
            <a:off x="3336840" y="369720"/>
            <a:ext cx="3638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lative Market Sh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4"/>
          <p:cNvSpPr/>
          <p:nvPr/>
        </p:nvSpPr>
        <p:spPr>
          <a:xfrm rot="16140000">
            <a:off x="576360" y="5959440"/>
            <a:ext cx="75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5"/>
          <p:cNvSpPr/>
          <p:nvPr/>
        </p:nvSpPr>
        <p:spPr>
          <a:xfrm rot="16140000">
            <a:off x="533160" y="1165320"/>
            <a:ext cx="829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16"/>
          <p:cNvSpPr/>
          <p:nvPr/>
        </p:nvSpPr>
        <p:spPr>
          <a:xfrm rot="16200000">
            <a:off x="-1069200" y="3350160"/>
            <a:ext cx="358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dustry Growth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Object 17"/>
          <p:cNvGraphicFramePr/>
          <p:nvPr/>
        </p:nvGraphicFramePr>
        <p:xfrm>
          <a:off x="1974960" y="4621320"/>
          <a:ext cx="160632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4960" y="4621320"/>
                    <a:ext cx="160632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Object 18"/>
          <p:cNvGraphicFramePr/>
          <p:nvPr/>
        </p:nvGraphicFramePr>
        <p:xfrm>
          <a:off x="6060960" y="4541760"/>
          <a:ext cx="1123920" cy="183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0960" y="4541760"/>
                    <a:ext cx="1123920" cy="18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19"/>
          <p:cNvSpPr/>
          <p:nvPr/>
        </p:nvSpPr>
        <p:spPr>
          <a:xfrm>
            <a:off x="6265080" y="1654200"/>
            <a:ext cx="96696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r-TR" sz="12900" spc="-1" strike="noStrike">
                <a:solidFill>
                  <a:srgbClr val="ffff00"/>
                </a:solidFill>
                <a:latin typeface="Antique Olive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20"/>
          <p:cNvSpPr/>
          <p:nvPr/>
        </p:nvSpPr>
        <p:spPr>
          <a:xfrm>
            <a:off x="2139840" y="1962000"/>
            <a:ext cx="1435320" cy="1435320"/>
          </a:xfrm>
          <a:prstGeom prst="pi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4360" y="1120680"/>
          <a:ext cx="7991280" cy="5305680"/>
        </p:xfrm>
        <a:graphic>
          <a:graphicData uri="http://schemas.openxmlformats.org/drawingml/2006/table">
            <a:tbl>
              <a:tblPr/>
              <a:tblGrid>
                <a:gridCol w="3997080"/>
                <a:gridCol w="3994200"/>
              </a:tblGrid>
              <a:tr h="532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role of Marketing in Creating Competitive Advant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Concept, Its Evolution and Organiz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Quality and Marke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vironmental Conditions and Marke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national Marke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Planning and Forecas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Research and Decision Support Syste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Segmentation, Selecting Target Markets and Positio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er Behavi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B Marke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ship Marke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 Strate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SzPct val="100000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d Management and Developing New Produ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SzPct val="100000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vice Marke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SzPct val="100000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ribu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SzPct val="100000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ai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SzPct val="100000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istics and Supply Chain Manag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SzPct val="100000"/>
                        <a:buBlip>
                          <a:blip r:embed="rId1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grated Marketing Commun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SzPct val="100000"/>
                        <a:buBlip>
                          <a:blip r:embed="rId1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rtising, Sales Promotion and P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SzPct val="100000"/>
                        <a:buBlip>
                          <a:blip r:embed="rId2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l Selling and Sales Manag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SzPct val="100000"/>
                        <a:buBlip>
                          <a:blip r:embed="rId2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ce Strategy, Pricing and Price Manag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12"/>
          <p:cNvSpPr/>
          <p:nvPr/>
        </p:nvSpPr>
        <p:spPr>
          <a:xfrm>
            <a:off x="684360" y="260280"/>
            <a:ext cx="8229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600" spc="-1" strike="noStrike">
                <a:solidFill>
                  <a:srgbClr val="ffffff"/>
                </a:solidFill>
                <a:latin typeface="Arial"/>
              </a:rPr>
              <a:t>MARKETING MANAGEMENT</a:t>
            </a:r>
            <a:r>
              <a:rPr b="1" i="1" lang="tr-T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tr-T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tr-TR" sz="1600" spc="-1" strike="noStrike">
                <a:solidFill>
                  <a:srgbClr val="ffffff"/>
                </a:solidFill>
                <a:latin typeface="Arial"/>
              </a:rPr>
              <a:t>         PROF.DR. KEMAL KURTULU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2195640" y="1684440"/>
            <a:ext cx="4102920" cy="3816000"/>
            <a:chOff x="2195640" y="1684440"/>
            <a:chExt cx="4102920" cy="3816000"/>
          </a:xfrm>
        </p:grpSpPr>
        <p:sp>
          <p:nvSpPr>
            <p:cNvPr id="330" name="Rectangle 3"/>
            <p:cNvSpPr/>
            <p:nvPr/>
          </p:nvSpPr>
          <p:spPr>
            <a:xfrm>
              <a:off x="5041800" y="1684440"/>
              <a:ext cx="1256760" cy="1161360"/>
            </a:xfrm>
            <a:prstGeom prst="rect">
              <a:avLst/>
            </a:prstGeom>
            <a:solidFill>
              <a:srgbClr val="7b46d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Rectangle 4"/>
            <p:cNvSpPr/>
            <p:nvPr/>
          </p:nvSpPr>
          <p:spPr>
            <a:xfrm>
              <a:off x="5041800" y="4339440"/>
              <a:ext cx="1256760" cy="11610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5"/>
            <p:cNvSpPr/>
            <p:nvPr/>
          </p:nvSpPr>
          <p:spPr>
            <a:xfrm>
              <a:off x="2195640" y="3012120"/>
              <a:ext cx="1257480" cy="1161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Rectangle 6"/>
            <p:cNvSpPr/>
            <p:nvPr/>
          </p:nvSpPr>
          <p:spPr>
            <a:xfrm>
              <a:off x="2195640" y="4339440"/>
              <a:ext cx="1257480" cy="1161000"/>
            </a:xfrm>
            <a:prstGeom prst="rect">
              <a:avLst/>
            </a:prstGeom>
            <a:solidFill>
              <a:srgbClr val="7b46d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7"/>
            <p:cNvSpPr/>
            <p:nvPr/>
          </p:nvSpPr>
          <p:spPr>
            <a:xfrm>
              <a:off x="3618720" y="3012120"/>
              <a:ext cx="1256760" cy="1161000"/>
            </a:xfrm>
            <a:prstGeom prst="rect">
              <a:avLst/>
            </a:prstGeom>
            <a:solidFill>
              <a:srgbClr val="7b46d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Rectangle 8"/>
            <p:cNvSpPr/>
            <p:nvPr/>
          </p:nvSpPr>
          <p:spPr>
            <a:xfrm>
              <a:off x="2195640" y="1684440"/>
              <a:ext cx="1257480" cy="11613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9"/>
            <p:cNvSpPr/>
            <p:nvPr/>
          </p:nvSpPr>
          <p:spPr>
            <a:xfrm>
              <a:off x="3618720" y="1684440"/>
              <a:ext cx="1256760" cy="11613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10"/>
            <p:cNvSpPr/>
            <p:nvPr/>
          </p:nvSpPr>
          <p:spPr>
            <a:xfrm>
              <a:off x="5041800" y="3012120"/>
              <a:ext cx="1256760" cy="11610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11"/>
            <p:cNvSpPr/>
            <p:nvPr/>
          </p:nvSpPr>
          <p:spPr>
            <a:xfrm>
              <a:off x="3618720" y="4339440"/>
              <a:ext cx="1256760" cy="11610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Rectangle 12"/>
          <p:cNvSpPr/>
          <p:nvPr/>
        </p:nvSpPr>
        <p:spPr>
          <a:xfrm>
            <a:off x="6875640" y="1916280"/>
            <a:ext cx="360360" cy="360360"/>
          </a:xfrm>
          <a:prstGeom prst="rect">
            <a:avLst/>
          </a:prstGeom>
          <a:solidFill>
            <a:srgbClr val="99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6877080" y="4502160"/>
            <a:ext cx="360360" cy="360360"/>
          </a:xfrm>
          <a:prstGeom prst="rect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6875640" y="2925720"/>
            <a:ext cx="360360" cy="360360"/>
          </a:xfrm>
          <a:prstGeom prst="rect">
            <a:avLst/>
          </a:prstGeom>
          <a:solidFill>
            <a:srgbClr val="7b46d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122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16"/>
          <p:cNvSpPr/>
          <p:nvPr/>
        </p:nvSpPr>
        <p:spPr>
          <a:xfrm rot="10800000">
            <a:off x="539640" y="1179360"/>
            <a:ext cx="5461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ket Attractiv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7"/>
          <p:cNvSpPr/>
          <p:nvPr/>
        </p:nvSpPr>
        <p:spPr>
          <a:xfrm rot="16200000">
            <a:off x="3835080" y="3328560"/>
            <a:ext cx="5461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Streng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8"/>
          <p:cNvSpPr/>
          <p:nvPr/>
        </p:nvSpPr>
        <p:spPr>
          <a:xfrm>
            <a:off x="1042920" y="204300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9"/>
          <p:cNvSpPr/>
          <p:nvPr/>
        </p:nvSpPr>
        <p:spPr>
          <a:xfrm>
            <a:off x="1116000" y="33336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20"/>
          <p:cNvSpPr/>
          <p:nvPr/>
        </p:nvSpPr>
        <p:spPr>
          <a:xfrm>
            <a:off x="1187280" y="47005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1"/>
          <p:cNvSpPr/>
          <p:nvPr/>
        </p:nvSpPr>
        <p:spPr>
          <a:xfrm>
            <a:off x="2340000" y="112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2"/>
          <p:cNvSpPr/>
          <p:nvPr/>
        </p:nvSpPr>
        <p:spPr>
          <a:xfrm>
            <a:off x="3635280" y="112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3"/>
          <p:cNvSpPr/>
          <p:nvPr/>
        </p:nvSpPr>
        <p:spPr>
          <a:xfrm>
            <a:off x="5148360" y="11174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4"/>
          <p:cNvSpPr/>
          <p:nvPr/>
        </p:nvSpPr>
        <p:spPr>
          <a:xfrm>
            <a:off x="6912000" y="9079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egory Strategic Im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25"/>
          <p:cNvSpPr/>
          <p:nvPr/>
        </p:nvSpPr>
        <p:spPr>
          <a:xfrm>
            <a:off x="7380360" y="1773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stment for 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26"/>
          <p:cNvSpPr/>
          <p:nvPr/>
        </p:nvSpPr>
        <p:spPr>
          <a:xfrm>
            <a:off x="7380360" y="2781360"/>
            <a:ext cx="176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Position; seek selective growth and earn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27"/>
          <p:cNvSpPr/>
          <p:nvPr/>
        </p:nvSpPr>
        <p:spPr>
          <a:xfrm>
            <a:off x="7380360" y="4365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rvest or div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s of Creating Brand Val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ng right market seg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ng right position in the selected seg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ng right “brand value” 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ing total value pro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ing the b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ing positive associations related to the b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ing the brand exceeding customer expec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Arial"/>
              </a:rPr>
              <a:t>BRAND N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propose benefits of the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have a proposition of the product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be easy to read, to write, to recognize, and to rem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be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not have a negative meaning in different countries or cul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create positive associations and recalls associated with the b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rketing Aud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hiloso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ed Marketing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equate Marketing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Ori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al 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25092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ustomer is the only profit center”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eter Druc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etitor and Competition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or firms ignore their competitors; average firms copy their competitors; winning firms lead their competitors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etition in a broad meaning is all sorts of activities threatening companies’ present and future positions in the market. Competition might be in a form of direct competition among the brands in the same market segment. Or it might be in an indirect form through substitute products. It might be even in a form of unrelated products since the customers disposable income is limited and therefore every brand should try to get a piece from i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rect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damental Concep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ast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ce elast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me elast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 elasticity (Competition Effec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15372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al Monitoring and Evaluation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Oval 4"/>
          <p:cNvSpPr/>
          <p:nvPr/>
        </p:nvSpPr>
        <p:spPr>
          <a:xfrm>
            <a:off x="1295280" y="1287360"/>
            <a:ext cx="6400800" cy="5105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2133720" y="2354400"/>
            <a:ext cx="4724280" cy="3124080"/>
          </a:xfrm>
          <a:prstGeom prst="ellipse">
            <a:avLst/>
          </a:prstGeom>
          <a:solidFill>
            <a:srgbClr val="faa94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7"/>
          <p:cNvSpPr/>
          <p:nvPr/>
        </p:nvSpPr>
        <p:spPr>
          <a:xfrm>
            <a:off x="3429000" y="3344760"/>
            <a:ext cx="2133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rget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8"/>
          <p:cNvSpPr/>
          <p:nvPr/>
        </p:nvSpPr>
        <p:spPr>
          <a:xfrm>
            <a:off x="4495680" y="235440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9"/>
          <p:cNvSpPr/>
          <p:nvPr/>
        </p:nvSpPr>
        <p:spPr>
          <a:xfrm>
            <a:off x="4495680" y="433548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10"/>
          <p:cNvSpPr/>
          <p:nvPr/>
        </p:nvSpPr>
        <p:spPr>
          <a:xfrm flipH="1">
            <a:off x="5562720" y="39546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11"/>
          <p:cNvSpPr/>
          <p:nvPr/>
        </p:nvSpPr>
        <p:spPr>
          <a:xfrm>
            <a:off x="2133720" y="39546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2"/>
          <p:cNvSpPr/>
          <p:nvPr/>
        </p:nvSpPr>
        <p:spPr>
          <a:xfrm>
            <a:off x="2668680" y="289548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3"/>
          <p:cNvSpPr/>
          <p:nvPr/>
        </p:nvSpPr>
        <p:spPr>
          <a:xfrm>
            <a:off x="4572000" y="2895480"/>
            <a:ext cx="20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2667960" y="441972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4955040" y="4419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16"/>
          <p:cNvSpPr/>
          <p:nvPr/>
        </p:nvSpPr>
        <p:spPr>
          <a:xfrm>
            <a:off x="685800" y="2743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17"/>
          <p:cNvSpPr/>
          <p:nvPr/>
        </p:nvSpPr>
        <p:spPr>
          <a:xfrm>
            <a:off x="2664000" y="17524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itical, Legal and Eth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8"/>
          <p:cNvSpPr/>
          <p:nvPr/>
        </p:nvSpPr>
        <p:spPr>
          <a:xfrm>
            <a:off x="1676520" y="5402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cio-Cult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19"/>
          <p:cNvSpPr/>
          <p:nvPr/>
        </p:nvSpPr>
        <p:spPr>
          <a:xfrm>
            <a:off x="4786560" y="551808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20"/>
          <p:cNvSpPr/>
          <p:nvPr/>
        </p:nvSpPr>
        <p:spPr>
          <a:xfrm>
            <a:off x="6765840" y="341316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21"/>
          <p:cNvSpPr/>
          <p:nvPr/>
        </p:nvSpPr>
        <p:spPr>
          <a:xfrm>
            <a:off x="2514600" y="1820880"/>
            <a:ext cx="60948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22"/>
          <p:cNvSpPr/>
          <p:nvPr/>
        </p:nvSpPr>
        <p:spPr>
          <a:xfrm flipV="1">
            <a:off x="6477120" y="2583000"/>
            <a:ext cx="8380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23"/>
          <p:cNvSpPr/>
          <p:nvPr/>
        </p:nvSpPr>
        <p:spPr>
          <a:xfrm>
            <a:off x="6553080" y="4716360"/>
            <a:ext cx="60984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24"/>
          <p:cNvSpPr/>
          <p:nvPr/>
        </p:nvSpPr>
        <p:spPr>
          <a:xfrm flipH="1">
            <a:off x="3886200" y="5478480"/>
            <a:ext cx="38088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25"/>
          <p:cNvSpPr/>
          <p:nvPr/>
        </p:nvSpPr>
        <p:spPr>
          <a:xfrm flipH="1">
            <a:off x="1447920" y="4335480"/>
            <a:ext cx="8380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4"/>
          <p:cNvSpPr/>
          <p:nvPr/>
        </p:nvSpPr>
        <p:spPr>
          <a:xfrm>
            <a:off x="468360" y="981000"/>
            <a:ext cx="8229600" cy="56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 strategies are effected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ny resources, company objectiv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ny targets and profit expect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ques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we have to compete directly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do, in which market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we compe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 Attractiveness (Por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 in the related se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nd potential competitors as new entr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itute or competitive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ing purchasing and negotiation power of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ing purchasing and negotiation power of suppl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dentifying Competi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levels of competition should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y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e72f4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sellers and their dif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43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opo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43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ligopo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43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opolistic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43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e of pure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e72f4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t entry conditions, mobility and barr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e72f4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e72f4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al Integration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e72f4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ization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ffffff"/>
                </a:solidFill>
                <a:latin typeface="Arial"/>
              </a:rPr>
              <a:t>MARKETING MANAGEMENT</a:t>
            </a:r>
            <a:r>
              <a:rPr b="1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tr-TR" sz="2000" spc="-1" strike="noStrike">
                <a:solidFill>
                  <a:srgbClr val="ffffff"/>
                </a:solidFill>
                <a:latin typeface="Arial"/>
              </a:rPr>
              <a:t> PROF.DR. KEMAL KURTULU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4000" y="1268280"/>
            <a:ext cx="80643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1828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re are three kinds of companies: those who make things happen; those who watch things happen; and those who wonder what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 happened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orld Class Marketing for Creating Competitive Advant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(Porter, Kotler, Hi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etition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e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ngths and Weak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ina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vor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v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etitor Analysi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ach competitor SWOT and for major competitors benchma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ach compet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 of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 of M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 of He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ction Patter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or Categor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id-back compet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lective compet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ger compet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chastic compet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ve equilibrium con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and Intelligence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ing research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gath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dissemination and respo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lecting Competitors to Attack and to Avo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stomer Value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major attributes customers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the quantitative importance of the different 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the company’s and competitors’ performances on the different customer values against  their rated impor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how customers in a specific segment rate the company’s performance against a specific major competitor on an attribute-by-attribute b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customer values ov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es of competi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versus W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 versus Dis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” versus “Ba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ket Leader Strateg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anding the Total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U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U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ending Market 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ition Def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ank Def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emptive Def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eroffensive Def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bile Def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action Def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anding Market 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tri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gal restri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onomic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lure in profi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e: P&amp;G and Caterpi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 Challenger Strate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ng the Strategic Objective and Opponent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tacking the market  l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tacking the firms of its own size that are not doing the job and are underfinanc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tacking the small local and regional fir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Attack Strate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ntal att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nk att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irclement att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-pass att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erilla att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c Attack Strate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ce-dis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aper go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tige go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ct prolif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ct inno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ved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tribution inno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ing cost re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ve advertising promo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ket Follower Strateg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erfei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it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ket-Nicher Strate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-user speci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ical-level speci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-size speci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-customer speci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graphic speci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 or product-line speci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-feature speci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-shop speci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-price speci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 speci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nel speci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 Through Higher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ISO, Malcolm Baldridge 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 Quality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6 Sig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ies in Transition – Learning Organ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 u="sng">
                <a:solidFill>
                  <a:srgbClr val="ffffff"/>
                </a:solidFill>
                <a:uFillTx/>
                <a:latin typeface="Arial"/>
              </a:rPr>
              <a:t>Case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: Wainwright 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Question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role of marketing he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me-Based Competition and Ag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nda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Object 4"/>
          <p:cNvGraphicFramePr/>
          <p:nvPr/>
        </p:nvGraphicFramePr>
        <p:xfrm>
          <a:off x="0" y="189000"/>
          <a:ext cx="914400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1066680" y="1336680"/>
            <a:ext cx="7239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Environment and Competition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- Case: P&amp;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- Case: Walker Res. / Case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2. Buyer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- Case: Rogaine / Case 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- Case: Delfiel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3. S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- Case: Marriott / Case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- Case: Tommy / Case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4. 4P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- Case: Cadillac / Case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- Case: K-Mart / Case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 Through Better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ng value through service improvements and additional services (such as improvements in after sales services and warranties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 u="sng">
                <a:solidFill>
                  <a:srgbClr val="ffffff"/>
                </a:solidFill>
                <a:uFillTx/>
                <a:latin typeface="Arial"/>
              </a:rPr>
              <a:t>Case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: 5/50, 7/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Question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role of marketing he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 Through Lower P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minimization and target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co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Scale Economi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Long term Average Cost Curv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 u="sng">
                <a:solidFill>
                  <a:srgbClr val="ffffff"/>
                </a:solidFill>
                <a:uFillTx/>
                <a:latin typeface="Arial"/>
              </a:rPr>
              <a:t>Case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: Wainwright 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Question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role of marketing he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 Through High Market Sh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ole of market share in marketing decision m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 Analyses (such as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BCG An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 u="sng">
                <a:solidFill>
                  <a:srgbClr val="ffffff"/>
                </a:solidFill>
                <a:uFillTx/>
                <a:latin typeface="Arial"/>
              </a:rPr>
              <a:t>Case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: Whirlpo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Question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role of marketing he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9:24:49Z</dcterms:created>
  <dc:creator/>
  <dc:description/>
  <dc:language>en-US</dc:language>
  <cp:lastModifiedBy> Fatih Ünal</cp:lastModifiedBy>
  <dcterms:modified xsi:type="dcterms:W3CDTF">2009-02-16T12:56:55Z</dcterms:modified>
  <cp:revision>141</cp:revision>
  <dc:subject/>
  <dc:title>PAZARLAMA YÖNETİMİ</dc:title>
</cp:coreProperties>
</file>