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7A9C1-690E-4B0D-A4E4-0DD852844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0CCF0-C95C-4E18-A8D9-FAE0910C5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B4324-EE59-4429-8328-E1B3C0E68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32CC1-AE85-438B-90A9-F9DBBFA96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CDDDF-B0CF-4E1D-A1C5-ACF4C4F34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51BE3-9802-44C0-9F0E-F4B3157C5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6BA86-1E97-4081-B665-9A3E5B2BE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F255C-352F-42C0-A4E9-577C059A6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58C35-9885-4169-8F46-3C3A2279B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669F1-918A-4D73-ABF4-56E6C1558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5A9BA-5F75-41C7-ADDF-ED0E5D705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73DF0-0DAF-455D-99CA-7C8D6957B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AEF56-D151-44A5-A4A7-C05D23BA7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2B6C3-050B-4E5A-8C7E-D708FC9FF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03E93-DBB1-47C3-BC43-3C4AF55AA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85050-7B9C-40D6-BBFD-86CF52DC2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F604B-0D85-471B-9FE7-20994E72C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DE2D38-1834-4BD2-B537-A19AE2136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7118D7-330D-4B99-A2FF-F6191D9B9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4B2324-5CB8-4286-B77B-380A9D3A1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D8DAAB-B4EE-4657-ABCE-A182EFBF6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2C73A0-1857-4447-A699-073BC0AB7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CDF84-297A-4B63-9B8E-6BC6E0EFD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6CD513-4588-40F7-9145-99D4EE762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C9D5EE-B643-4BC2-B864-16BC5CE60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5CEE13-A457-4DBB-A60A-83F87CE91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F7BD7D-7191-4D97-B59A-336324D2B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618F14-A7CD-4DED-8640-30C8F8FDB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D3B9BA-E642-4382-8DBD-1F23A79B5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6D3281-1C0C-4499-A43D-BCD1433B1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C7FEB2-90A8-4864-86DC-C12FD1E68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64F936-A98E-4934-A6E4-48B9A9DC7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E15113-416D-4274-83A1-BCF16C98A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B59FA-614D-4682-8EC6-57C2F78E5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5B5346-DD25-4271-A7B5-590D4ECA6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09CAE2-0DB0-4868-9173-979ABDBBB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FA0511-1A4F-4299-9B0E-11CA30332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D821A2-AABE-42A0-B652-18BC1C71B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AEE7FD-A233-468E-901C-981A7F575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262442-83F5-4212-84A6-3C49AE45A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FD8B38-B45A-46E8-90B7-FE37729C1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AE8709-2E6F-4650-871B-A7FB6848E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CE15C0-AF14-4DC7-95A4-FEEC6A96A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1C7A9-2AE5-477C-A09C-303E585E7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4E727-0159-4C0C-AC84-5D1BFB70D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EACCC-29AB-4E2B-9A97-E52DE91B4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760F3-2A03-456B-90AC-412356532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E3C75-9E84-49B4-9823-BE99A7F82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7887E-755B-4A05-BFF9-87B61E0A8DD3}" type="slidenum">
              <a:rPr b="0" lang="tr-TR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5C1BE-CA0D-4BAB-8E42-0F3925A6AC81}" type="slidenum">
              <a:rPr b="0" lang="tr-TR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2DA5F-861C-49CE-96EF-72074AC129B5}" type="slidenum">
              <a:rPr b="0" lang="tr-TR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61A68-41EB-4150-918E-E7BD861E7BFE}" type="slidenum">
              <a:rPr b="0" lang="tr-TR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1" descr=""/>
          <p:cNvPicPr/>
          <p:nvPr/>
        </p:nvPicPr>
        <p:blipFill>
          <a:blip r:embed="rId1"/>
          <a:stretch/>
        </p:blipFill>
        <p:spPr>
          <a:xfrm>
            <a:off x="365040" y="79200"/>
            <a:ext cx="8321760" cy="103680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7" name="Picture 4" descr=""/>
          <p:cNvPicPr/>
          <p:nvPr/>
        </p:nvPicPr>
        <p:blipFill>
          <a:blip r:embed="rId2"/>
          <a:stretch/>
        </p:blipFill>
        <p:spPr>
          <a:xfrm>
            <a:off x="357120" y="1214280"/>
            <a:ext cx="8286840" cy="554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04617b"/>
                </a:solidFill>
                <a:latin typeface="Calibri"/>
              </a:rPr>
              <a:t>Competitive Advantages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Arial"/>
                <a:ea typeface="Arial"/>
              </a:rPr>
              <a:t>The first and the largest agricultural database of Turkey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Arial"/>
                <a:ea typeface="Arial"/>
              </a:rPr>
              <a:t>Not only marketing agricultural products but also package and agricultural machines by internet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Arial"/>
                <a:ea typeface="Arial"/>
              </a:rPr>
              <a:t>Have foreign members from Russia, England, Azerbaijan , Ukrain and Israel who wants to be in Turkish market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0004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04617b"/>
                </a:solidFill>
                <a:latin typeface="Calibri"/>
              </a:rPr>
              <a:t>What the company should do?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Arial"/>
                <a:ea typeface="Arial"/>
              </a:rPr>
              <a:t>Global Trad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Arial"/>
                <a:ea typeface="Arial"/>
              </a:rPr>
              <a:t>Product improvement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Arial"/>
                <a:ea typeface="Arial"/>
              </a:rPr>
              <a:t>Innovation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7168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04617b"/>
                </a:solidFill>
                <a:latin typeface="Calibri"/>
              </a:rPr>
              <a:t>Tarimsalpazarlama.com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Arial"/>
                <a:ea typeface="Arial"/>
              </a:rPr>
              <a:t>Can the farmers marketing their goods in internet in Turkey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Arial"/>
                <a:ea typeface="Arial"/>
              </a:rPr>
              <a:t>Do the people buy melon without smelling or sheep without looking its teeth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Arial"/>
                <a:ea typeface="Arial"/>
              </a:rPr>
              <a:t>The answer is ye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Arial"/>
                <a:ea typeface="Arial"/>
              </a:rPr>
              <a:t>www.tarimsalpazarlama.com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0004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04617b"/>
                </a:solidFill>
                <a:latin typeface="Calibri"/>
              </a:rPr>
              <a:t>Environmental Factors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Arial"/>
                <a:ea typeface="Arial"/>
              </a:rPr>
              <a:t>Technologic infrastructure is sufficient for internet servic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Arial"/>
                <a:ea typeface="Arial"/>
              </a:rPr>
              <a:t>8 mb internet service is provided to 85 % of 6,2 million ADSL member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Arial"/>
                <a:ea typeface="Arial"/>
              </a:rPr>
              <a:t>Total number of households engaged in agricultural activity is 4.106.983 and the value of agricultural production is 69 million dollar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Arial"/>
                <a:ea typeface="Arial"/>
              </a:rPr>
              <a:t>Average education period  is 7,5 years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7168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04617b"/>
                </a:solidFill>
                <a:latin typeface="Calibri"/>
              </a:rPr>
              <a:t>Social Cultural Factors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Arial"/>
                <a:ea typeface="Arial"/>
              </a:rPr>
              <a:t>Religion effect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Arial"/>
                <a:ea typeface="Arial"/>
              </a:rPr>
              <a:t>Some farmers believe that internet is “sin”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0004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04617b"/>
                </a:solidFill>
                <a:latin typeface="Calibri"/>
              </a:rPr>
              <a:t>External Factor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Arial"/>
                <a:ea typeface="Arial"/>
              </a:rPr>
              <a:t>Alibaba.com and tarimsalpazarlama.com have negotiated in terms of marketing the Turkish agricultural products and equipment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7168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04617b"/>
                </a:solidFill>
                <a:latin typeface="Calibri"/>
              </a:rPr>
              <a:t>Legal Environmen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Arial"/>
                <a:ea typeface="Arial"/>
              </a:rPr>
              <a:t>5846 sayılı Fikir Ve Sanat Eserleri Kanunu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Arial"/>
                <a:ea typeface="Arial"/>
              </a:rPr>
              <a:t>5651 sayılı İnternet Ortamında Yapılan  Yayınların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tr-TR" sz="2600" spc="-1" strike="noStrike">
                <a:solidFill>
                  <a:srgbClr val="000000"/>
                </a:solidFill>
                <a:latin typeface="Arial"/>
                <a:ea typeface="Arial"/>
              </a:rPr>
              <a:t>Düzenlenmesi ve Bu Yayınlar Yoluyla İşlenen Suçlarla Mücadele Edilmesi Hakkında Kanu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04617b"/>
                </a:solidFill>
                <a:latin typeface="Calibri"/>
              </a:rPr>
              <a:t>What strategy should be in users market?</a:t>
            </a:r>
            <a:br>
              <a:rPr sz="3200"/>
            </a:b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Arial"/>
                <a:ea typeface="Arial"/>
              </a:rPr>
              <a:t>Penetration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Arial"/>
                <a:ea typeface="Arial"/>
              </a:rPr>
              <a:t>Maximize number of user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Arial"/>
                <a:ea typeface="Arial"/>
              </a:rPr>
              <a:t>There are 20.000 members. (18.000 visitors, 2000  commercial members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Arial"/>
                <a:ea typeface="Arial"/>
              </a:rPr>
              <a:t>10.000 users click the website in every day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Arial"/>
                <a:ea typeface="Arial"/>
              </a:rPr>
              <a:t>No price for membership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Arial"/>
                <a:ea typeface="Arial"/>
              </a:rPr>
              <a:t>Send e-news letter to 55.000 people in every week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Arial"/>
                <a:ea typeface="Arial"/>
              </a:rPr>
              <a:t>To attend fairs for learning the demands of member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04617b"/>
                </a:solidFill>
                <a:latin typeface="Calibri"/>
              </a:rPr>
              <a:t>What strategy should be in users market?</a:t>
            </a:r>
            <a:br>
              <a:rPr sz="3200"/>
            </a:b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Arial"/>
                <a:ea typeface="Arial"/>
              </a:rPr>
              <a:t>Ads are sended to 35.000 people who are in agricultural sector by e-mail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Arial"/>
                <a:ea typeface="Arial"/>
              </a:rPr>
              <a:t>An organization named Agricultural Academy is founded and the farmers have been educated without charg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04617b"/>
                </a:solidFill>
                <a:latin typeface="Calibri"/>
              </a:rPr>
              <a:t>For advertisers what company should do?</a:t>
            </a:r>
            <a:br>
              <a:rPr sz="3200"/>
            </a:b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Arial"/>
                <a:ea typeface="Arial"/>
              </a:rPr>
              <a:t>They should do rating studie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Arial"/>
                <a:ea typeface="Arial"/>
              </a:rPr>
              <a:t>High rating high pric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Arial"/>
                <a:ea typeface="Arial"/>
              </a:rPr>
              <a:t>Per month from 50 TL to 2.000 TL depending on location and size of advertisement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1T16:00:03Z</dcterms:created>
  <dc:creator>Fatih Ünal</dc:creator>
  <dc:description/>
  <cp:keywords>TARIMSALPAZARLAMA.COM presentation</cp:keywords>
  <dc:language>en-US</dc:language>
  <cp:lastModifiedBy> Fatih Ünal</cp:lastModifiedBy>
  <dcterms:modified xsi:type="dcterms:W3CDTF">2010-09-19T16:30:07Z</dcterms:modified>
  <cp:revision>32</cp:revision>
  <dc:subject>TARIMSALPAZARLAMA.COM presentation</dc:subject>
  <dc:title>TARIMSALPAZARLAMA.COM presentation</dc:title>
</cp:coreProperties>
</file>